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9C9EE7-DD21-420D-ACAB-2220574959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17ED67-B053-4A57-80C9-BD4DB2F0A1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E42CBF-DB30-46EF-A321-5385FF269B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CF547B-2D63-4879-8E4C-914ED23A316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469247-4712-4755-8448-08218130BC8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E20790-8139-4C7E-98BF-C62F19EB9C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D1CCC1-7334-445A-B169-24F3678210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050E79-BDC8-4E97-9688-8DB64FB6E7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70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513A1D-0068-4B41-8663-9637D12250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0CC95-AE28-4EAC-AE69-8CAD1C33AD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C329A6-3192-42E1-82B7-9EE12C58D4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8731E4-3115-4383-A93C-46FE96D08D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462440" y="624492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E77FF-44F3-49F9-B147-4E04C2BA7A6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23842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Language Diversity in Switzerl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96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Fritzi Wittman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IB German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Quarter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981160" y="2381400"/>
            <a:ext cx="3181680" cy="209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line 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www.swissinfo.ch/eng/Home/Archive/Swiss_urged_not_to_forget_language_diversity.html?cid=67023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www.ch.ch/private/00987/01052/01054/02165/index.html?lang=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www.usefoundation.org/view/6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images.travelpod.com/users/obrian0620/1.1289495297.switzerland-s-linguistic-diversity.gi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//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.gps-club.de/media/swiss_flag_big.gi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Lucida Grande"/>
                <a:ea typeface="Lucida Grande"/>
              </a:rPr>
              <a:t>Facts </a:t>
            </a:r>
            <a:br>
              <a:rPr sz="4000"/>
            </a:b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Grande"/>
                <a:ea typeface="Lucida Grande"/>
              </a:rPr>
              <a:t>Article: Swiss urged not to forget language diversity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Switzerland has four nationally recognized languages: French, German, Italian, and Romans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Due to the global popularity of English Switzerland’s multilingual culture is under attack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Due to immigration and migration of language itself, Switzerland is, in many ways, more multilingual than befor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When polled, 80% of students attending a high school in Geneva agreed that it is important to be multilingual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While all German speaking students in schools are taught French as a second language it does not mean that the students are fluent throwing the legitimacy of being “multilingual” in to questi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143000" y="228600"/>
            <a:ext cx="6553080" cy="51228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609480" y="5486400"/>
            <a:ext cx="75567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Romansh, a Latin based language, accounts for approximately 0.5% of the populations language of choic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Facts</a:t>
            </a:r>
            <a:br>
              <a:rPr sz="4000"/>
            </a:br>
            <a:r>
              <a:rPr b="0" lang="en-US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Article: Switzerland's Linguistic Landscap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Other minority languages spoken in Switzerland Serbian, Croatian, Spanish, and English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While, for the most part, Switzerland’s linguistic boarders are clearly defined there are definite areas of overlap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July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Lucida Grande"/>
                <a:ea typeface="Lucida Grande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, 2011 the Ordinance on National Languages and Understanding between the Linguistic Communities  came to b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Each language is urged to promote multilingualism in order to preserve their own cultur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The most popularly spoken language in Switzerland is German (63.7%) followed by Italian (9%) and French (6.5%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609480" y="1066680"/>
            <a:ext cx="7696440" cy="34228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609480" y="4724280"/>
            <a:ext cx="786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This sign exemplifies the multilingual aspects of the Swiss cultur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Facts</a:t>
            </a:r>
            <a:br>
              <a:rPr sz="4000"/>
            </a:br>
            <a:r>
              <a:rPr b="0" lang="en-US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Article: A Study on Linguistic Divers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The Swiss National Science Foundation recently began a study on linguistic diversity and language competenc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Language is pre-assigned to each territorial division of Switzerlan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Approximately 25% of the Swiss population are foreigner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Schools focus primarily on teaching German and French to their pupil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The SNSF is likely to use their collected data to produce new guidelines for schools to follow in the upcoming year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5105160" y="838080"/>
            <a:ext cx="3276360" cy="45259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  <a:ea typeface="ヒラギノ角ゴ ProN W3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This book illustrates how “Swiss” is truly a compilation of distinct languages yet is has managed to make them its own 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4124520" cy="634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QUIZ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649440" indent="-609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Gran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What percent of Swiss speak Romansh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9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  <a:ea typeface="ヒラギノ角ゴ ProN W3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a) 1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9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  <a:ea typeface="ヒラギノ角ゴ ProN W3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b) 2 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9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  <a:ea typeface="ヒラギノ角ゴ ProN W3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c) 0.5%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9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  <a:ea typeface="ヒラギノ角ゴ ProN W3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d) 7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9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9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9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2. What percent of Students in Geneva believe that being multilingual is very importan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9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  <a:ea typeface="ヒラギノ角ゴ ProN W3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a) 75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9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  <a:ea typeface="ヒラギノ角ゴ ProN W3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b) 2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9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  <a:ea typeface="ヒラギノ角ゴ ProN W3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c) 15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9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  <a:ea typeface="ヒラギノ角ゴ ProN W3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d) 8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Answers: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649440" indent="-609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Gran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C; It is estimated that 0.5% of the population speaks on of the several dialects of Romansh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Grande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D; When polled, 80% of students acknowledged the importance of multilingualism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CSadmin</dc:creator>
  <dc:description/>
  <dc:language>en-US</dc:language>
  <cp:lastModifiedBy/>
  <cp:revision>0</cp:revision>
  <dc:subject/>
  <dc:title>Language Diversity in Switzerland</dc:title>
</cp:coreProperties>
</file>